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5AB3-C649-4072-817B-EFEAB319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700"/>
            </a:br>
            <a:r>
              <a:rPr b="1" lang="en-CA" sz="7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990000"/>
                </a:solidFill>
                <a:latin typeface="Arial"/>
              </a:rPr>
              <a:t>Traditional Classrooms:</a:t>
            </a:r>
            <a:br>
              <a:rPr sz="8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Why add discussions to lecture situations?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ssist students in improving their learning proc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lets them compare their knowledge with each other</a:t>
            </a:r>
            <a:br>
              <a:rPr sz="700"/>
            </a:br>
            <a:br>
              <a:rPr sz="7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onfront their own assum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- helps them realize there can be more than one correct way to solve proble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Researchers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ound students separated quality of instruction from class size 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Student comments identified four characteristics of successful professors:</a:t>
            </a:r>
            <a:br>
              <a:rPr sz="800"/>
            </a:b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mpetenc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knowledge and experience with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concern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 in assisting students and improving the learning process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energy level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enthusiasm about the subject </a:t>
            </a:r>
            <a:br>
              <a:rPr sz="800"/>
            </a:br>
            <a:r>
              <a:rPr b="1" lang="en-CA" sz="800" spc="-1" strike="noStrike">
                <a:solidFill>
                  <a:srgbClr val="000000"/>
                </a:solidFill>
                <a:latin typeface="Arial"/>
              </a:rPr>
              <a:t>Instructor speaking ability: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 interesting, well-paced presentation of course mater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the rules of discussion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01D-A183-43AB-9CC4-176FB141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F1C-1969-47A4-8141-3627B9D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C70-EF83-4B1E-8AE8-1281B1E1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980-DDC3-44F9-B72E-7FD042FF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11B-EEE1-4DB0-9051-7ECAE76A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6BD-3895-4FB9-B3F9-B1CB3EF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BAC-FC9F-487A-BF3C-7A4020D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1E3-43CA-41BC-B51B-4FC91CB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662-7EA8-44DB-BABA-90640C8B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3C0-A766-447E-8CCB-FC9D25D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3DA-762B-4690-BCA5-D8A87B8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3AA-A137-43FF-96E3-28F8A99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720F-7888-4517-9715-279C4E906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ietnamese Group Visit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romoting Discussion for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teractive Learning </a:t>
            </a:r>
            <a:br>
              <a:rPr sz="3600"/>
            </a:br>
            <a:br>
              <a:rPr sz="40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pril 21 &amp; 22, 2008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) Stimulate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hought-provoking question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a few minutes to write down their answers, then present them to the whole clas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students who might provide an unusual viewpoint; generate many perspectives on one issu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) Guide the discu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the opportunity to speak; not always the same stud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students’ ideas &amp; ask for comme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positively about students’ contribu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issues discussed &amp; highlight key point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e discussion become a heated argum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at can you do if: </a:t>
            </a:r>
            <a:br>
              <a:rPr sz="2800"/>
            </a:br>
            <a:br>
              <a:rPr sz="2800"/>
            </a:b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he whole group is silent &amp; unresponsiv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ry these techniques to start discussions:</a:t>
            </a:r>
            <a:br>
              <a:rPr sz="28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yramids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uzz Groups: 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ll groups of 2, 3, or 4 students discuss a topic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or a short period (5-10 minutes)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What are some topics in your specific area that you could use for student discussions?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Come up with at least one question or problem for students to discuss in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unds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 sits in a circle &amp; turn passes round the circ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student in the group takes a turn speaking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ach person speaks once before anyone speaks a second time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alanced pattern of interaction makes it much more likely that individuals will speak again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Pyramid or “snowballing”: </a:t>
            </a:r>
            <a:br>
              <a:rPr sz="32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Students will share many different opinions on a topic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by: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orking alone first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n in pair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ke a group of four or six people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Finally, the whole group discu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student interaction in lectur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’s role when using discussion</a:t>
            </a:r>
            <a:br>
              <a:rPr sz="28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techniques to introduce discussion into your lectures: </a:t>
            </a:r>
            <a:br>
              <a:rPr sz="28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Buzz Group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Round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Pyramids or “Snowball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600"/>
            </a:br>
            <a:br>
              <a:rPr sz="28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Why add discussions to </a:t>
            </a:r>
            <a:br>
              <a:rPr sz="3600"/>
            </a:b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raditional lectures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990000"/>
                </a:solidFill>
                <a:latin typeface="Arial"/>
              </a:rPr>
              <a:t>Interactive Classrooms</a:t>
            </a:r>
            <a:br>
              <a:rPr sz="3200"/>
            </a:br>
            <a:br>
              <a:rPr sz="2400"/>
            </a:b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y add discussions to existing lectures?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interaction improves students’ learning process 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- compare their knowledge with each other</a:t>
            </a:r>
            <a:br>
              <a:rPr sz="2400"/>
            </a:b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- may be more than one correct answer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1430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Objectives</a:t>
            </a: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fter today’s session, learners should be able to: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cuss &amp; reflect upon how interaction might improve stud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cribe at least one way to introduce discussion into a traditional lecture 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 a positive learning environment for instructors &amp; stud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193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structor’s role when using discussion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1) Setting objective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2) Structuring discussions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3) Setting up the room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4) Creating the proper climate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5) Stimulating participation </a:t>
            </a:r>
            <a:br>
              <a:rPr sz="2200"/>
            </a:b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   6) Guiding the discussion</a:t>
            </a:r>
            <a:br>
              <a:rPr sz="22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 Techniques for starting discussions: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Buzz Group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Rou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) Set objectives for each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br>
              <a:rPr sz="2400"/>
            </a:br>
            <a:r>
              <a:rPr b="1" lang="en-US" sz="2700" spc="-1" strike="noStrike">
                <a:solidFill>
                  <a:srgbClr val="990000"/>
                </a:solidFill>
                <a:latin typeface="Arial"/>
              </a:rPr>
              <a:t>You might want your students to be able to: </a:t>
            </a:r>
            <a:br>
              <a:rPr sz="27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evelop their negotiation or communication skil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late their discussions to a cours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) Select appropriate forms of class discus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presen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group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a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udents followed by class discussions &amp; summary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) Set up room to encourage discussion</a:t>
            </a:r>
            <a:br>
              <a:rPr sz="26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ifferent room-settings affect student partici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ting in a circle allows everyone to see &amp; communicate with each other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 circulates among small groups to answer questions or clarify the t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) Create a climate to facilitate 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r 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 topics &amp; introduce key term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fficient time for discussio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ru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ill students take turns speaking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Clarify the appropriate ways to interrupt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2:20:32Z</dcterms:created>
  <dc:creator>University of Calgary</dc:creator>
  <dc:description/>
  <dc:language>en-US</dc:language>
  <cp:lastModifiedBy>University of Calgary</cp:lastModifiedBy>
  <dcterms:modified xsi:type="dcterms:W3CDTF">2008-04-21T18:07:45Z</dcterms:modified>
  <cp:revision>479</cp:revision>
  <dc:subject/>
  <dc:title>Large Classes</dc:title>
</cp:coreProperties>
</file>